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F35-146F-4247-A895-D06FD698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5571-6BDF-47BF-BDAD-C3D2FB8E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2182-65A1-489E-B2AA-6BB008DC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C795-2E37-4502-8ED0-C0FFB263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C6F0-3939-43B1-8261-117411B8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0960-C349-4488-A630-8F64E74F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A117-F739-4DA6-85FE-7CF81BCA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6AA5-351C-4B3F-8D01-1E65E4A3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3680-7609-40A6-9CAE-7EB77F89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6CA4-F06E-4FB0-BE13-60360052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47DC-0B95-4721-BE22-B76FDEC5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5214-1FE6-4AFD-BB28-E6E9C323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1404-35FD-4BF3-BBD1-250B76308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287866lcpLYmOAJ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238880" y="457200"/>
            <a:ext cx="16002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abic Transparent"/>
              </a:rPr>
              <a:t>كما يشتاقُ الأيّل إلى مجاري الميا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57200"/>
            <a:ext cx="1828800" cy="68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كذا نفسي تشتاق إليك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رب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1287869xQRiyRyaRq_ph" descr=""/>
          <p:cNvPicPr/>
          <p:nvPr/>
        </p:nvPicPr>
        <p:blipFill>
          <a:blip r:embed="rId1"/>
          <a:stretch/>
        </p:blipFill>
        <p:spPr>
          <a:xfrm>
            <a:off x="0" y="0"/>
            <a:ext cx="60548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248520" y="457200"/>
            <a:ext cx="2895480" cy="83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ظمئت نفسي إلى الله الح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متى آتي وأَحضَُر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أمام الل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507793AQtFtoRTjq_ph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52920" y="149400"/>
            <a:ext cx="4562640" cy="9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د كان لي دمعي خبزاً نهاراً وليل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حين قيل لي كلَّ يوم أين إلهُ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لماذا تكتئبين يا نفس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سأعودُ أعترف له أنت خلاصُ وجهي وإله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1287866lcpLYmOAJ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238880" y="457200"/>
            <a:ext cx="16002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abic Transparent"/>
              </a:rPr>
              <a:t>كما يشتاقُ الأيّل إلى مجاري الميا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1828800" cy="68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كذا نفسي تشتاق إليك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رب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3385303cWwlWnYqMS_ph" descr=""/>
          <p:cNvPicPr/>
          <p:nvPr/>
        </p:nvPicPr>
        <p:blipFill>
          <a:blip r:embed="rId1"/>
          <a:stretch/>
        </p:blipFill>
        <p:spPr>
          <a:xfrm>
            <a:off x="4521240" y="0"/>
            <a:ext cx="9244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304920"/>
            <a:ext cx="3809880" cy="60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النهار يأمرُ الربُ برحمت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في الليل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أ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شد  صلا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إله حيات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286622bSprOQQocd_ph" descr=""/>
          <p:cNvPicPr/>
          <p:nvPr/>
        </p:nvPicPr>
        <p:blipFill>
          <a:blip r:embed="rId1"/>
          <a:stretch/>
        </p:blipFill>
        <p:spPr>
          <a:xfrm>
            <a:off x="-2362320" y="-30492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867280" y="27000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453960"/>
            <a:ext cx="4572000" cy="80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قول له لماذا نسيتني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أنت صخرت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اذا تكتئبينَ يا نفس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سأعود أعترفُ له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ت خلاص وجهي وإله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1287866lcpLYmOAJ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238880" y="457200"/>
            <a:ext cx="16002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abic Transparent"/>
              </a:rPr>
              <a:t>كما يشتاقُ الأيّل إلى مجاري الميا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57200"/>
            <a:ext cx="1828800" cy="68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كذا نفسي تشتاق إليك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رب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09:18:05Z</dcterms:created>
  <dc:creator>SUZANNE.MD</dc:creator>
  <dc:description/>
  <dc:language>en-US</dc:language>
  <cp:lastModifiedBy>USER</cp:lastModifiedBy>
  <dcterms:modified xsi:type="dcterms:W3CDTF">2003-01-22T11:23:52Z</dcterms:modified>
  <cp:revision>3</cp:revision>
  <dc:subject/>
  <dc:title>PowerPoint Presentation</dc:title>
</cp:coreProperties>
</file>